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67A-5D3E-4413-829A-FAB837FC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C9CD-D908-44F9-B50F-96E24D2B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9A3-5B03-420F-B0AA-C905ED54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910-5FD6-4D07-AD03-98001BC4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D91-B2A1-45A3-A906-4A31F58D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33D-AA43-4545-91DC-062EDC1C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67D-D61A-476F-8FBE-B0F26080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216-7CAF-40F0-8CED-B9972F6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3BE-E277-4415-9D89-832A3A0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FC5-35EB-40EA-A5C4-3126A083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BA2-2E3F-4031-B019-6C8438EA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D21-0A09-41DA-B45A-3F98C95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563-4F7D-49AE-BC8B-752DF64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313-7AAD-4FBA-B0FA-0265D80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7CAD-2A6D-4A56-86A6-3DB00C25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o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33Z</dcterms:modified>
  <cp:revision>102</cp:revision>
  <dc:subject/>
  <dc:title>Profile</dc:title>
</cp:coreProperties>
</file>